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B54-BD5F-459C-9242-37F6E4A0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2CA-2251-45A1-8944-02E67C93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CC8-17F6-4B7F-9F12-D6D2556F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017-8F9D-4F48-808A-B5D3EB6B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FDA-72E9-4D41-AC62-367DA3B1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25D-AFCA-4EC3-AC01-3F97776B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01A-D6CD-4415-9616-4022AE10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13C-DD0F-4B80-BD79-BE86E637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9BE-DF47-4D65-BCE4-6EED9F3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430-5F2D-40AE-A68E-F98BDD58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12C-A6CE-4374-B9B8-69F9C2F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6D2-F575-4115-BCDF-942475FA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27B90-7A02-4101-AF3D-39CA6982B431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606600"/>
            <a:ext cx="190188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9600" y="3544920"/>
            <a:ext cx="1890720" cy="266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SINGLE-CHIP REAL-TIME DUAL BEAM FORMER WITH CORRELATION CAPABILITIES AT N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600" y="490680"/>
            <a:ext cx="616428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Virtex-5 FXT 100 FPGA/KIT ML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 twin Channels for FAN (but 24 complex gain sets), 24 (and later 32) channels for BAO cylinder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ull rate dual beam-forming for trigger  ~30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dition from 2 to 65536 dual square-modu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relation : Visibility of only one channel pair at the same time &lt;=&gt; full rate with effective trigger 390Hz for 78 visibilities (12 channels) =&gt; Source trackin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8284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CasA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98760" y="3371760"/>
            <a:ext cx="2362320" cy="125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98760" y="4581360"/>
            <a:ext cx="2362320" cy="130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2560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840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3c123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2116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51560" y="3429000"/>
            <a:ext cx="230508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8800" y="4638600"/>
            <a:ext cx="2189160" cy="117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529-DAB8-4C5C-B9E2-7CEBD9A736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SAME FPGA AND ANOTHER FIRM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3680" y="2968560"/>
            <a:ext cx="8353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rtex 5 FxT 100 has 256 multipliers and 16 GtX transceivers : #16 at half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#32 at 1/8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IT Virtex-6 ML623** (LXT 240) has 768 multipliers and 24 GTX transceivers = 48 channels of ADC board, and can perform full-rate correlation at #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 $ 499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680" y="836640"/>
            <a:ext cx="85834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 channels : N(N+1)/2 elements in the visibility matrix =&gt; 2 multipliers on the diagonal + 4 multipliers on the other parts =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2N</a:t>
            </a:r>
            <a:r>
              <a:rPr b="0" lang="fr-FR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2 channels =&gt;  28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6 channels =&gt;  51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24 channels =&gt; 115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32 channels=&gt; 204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4465800"/>
            <a:ext cx="161280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5D4-2490-491C-97FD-E7D3901B21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NEW VC707 VIRTEX-7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0040" y="706320"/>
            <a:ext cx="2019240" cy="415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2000" y="4876920"/>
            <a:ext cx="8982000" cy="142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19640" y="1152360"/>
            <a:ext cx="234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UNIBO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,304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(SF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70 canaux /coup horlo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10304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98920" y="2879640"/>
            <a:ext cx="108288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00720" y="2338560"/>
            <a:ext cx="144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0360" y="1138320"/>
            <a:ext cx="25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C7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800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 (FM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37 canaux /coup horlo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2800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240000" y="1978200"/>
            <a:ext cx="1800" cy="288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B1D-6C09-4C56-BF42-BF4F801F7DC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LOCK DISTRIBUTION (DISTCL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28800" y="4581360"/>
            <a:ext cx="31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70120" y="4178160"/>
            <a:ext cx="328284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emi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040" y="4465800"/>
            <a:ext cx="922320" cy="979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4984920"/>
            <a:ext cx="132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16080" y="4521240"/>
            <a:ext cx="180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55609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by external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5041800"/>
            <a:ext cx="2708280" cy="276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rnal 10MHz Reference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62480" y="4520880"/>
            <a:ext cx="180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00080" y="2506680"/>
            <a:ext cx="236232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016080" y="2850840"/>
            <a:ext cx="180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608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94320" y="2850840"/>
            <a:ext cx="144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9432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92440" y="3486240"/>
            <a:ext cx="149868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604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6440" y="158580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8604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98760" y="1585800"/>
            <a:ext cx="190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2506680"/>
            <a:ext cx="236196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9432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85800"/>
            <a:ext cx="241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47040" y="1585800"/>
            <a:ext cx="190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1469880"/>
            <a:ext cx="1440" cy="17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A19-CD24-4386-B19D-73D57BB11A1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ACTIONS A VE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079640"/>
            <a:ext cx="809964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L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nçay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Visibilités en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ins obtenus par les visibilités du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ual beam avec ces gains en transit et/ou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pier Real-Time 2012 à Berkeley (si accept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855880"/>
            <a:ext cx="80996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routines de comm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lification du code C du 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de la carte réceptrice pour traitement de l'horloge fibre encod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0000" y="4140360"/>
            <a:ext cx="1019160" cy="9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908840" y="4929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gi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99280" y="3780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378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21160"/>
            <a:ext cx="8070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tomatisation Acq LAL/Corrélateur/DISTCLK/Chari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melioration du firmware du FPGA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dividuel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chaque M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nitoring de l’alignement, lock PLLs… sur chaque ca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2B8-50FE-4D14-885E-5E430DC4F6A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50:51Z</dcterms:created>
  <dc:creator>deschamps</dc:creator>
  <dc:description/>
  <dc:language>en-US</dc:language>
  <cp:lastModifiedBy>deschamps</cp:lastModifiedBy>
  <dcterms:modified xsi:type="dcterms:W3CDTF">2012-03-29T17:37:50Z</dcterms:modified>
  <cp:revision>21</cp:revision>
  <dc:subject/>
  <dc:title>Diapositive 1</dc:title>
</cp:coreProperties>
</file>